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537F-868A-406F-AA3E-79E935B6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FC97-69C4-4CAB-A42F-7EECB6CB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0153-4F1A-46A0-B27E-6F5D9035C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EF74-99C4-4451-BA69-F67EAB662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D1E3-41B6-4C23-AEC4-D3EE57BA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4029-9206-4BFA-9986-F9712EBD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65A2-7FBC-46CA-9642-2C9122CC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9113-327D-45C5-906C-9D7D265A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1B37-1EE8-4570-800C-A67520D7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4E31-8382-4D44-98CB-0D7FD75F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9108-27F0-4320-9E63-783B0312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DE32-78A3-4E08-B1CE-09311BB8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8473-FA3B-462D-A738-241D9EC6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13B5-7B79-45BA-8FD1-8C3F7A8E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6E84-E814-4D72-BF31-15CFCFDA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F642-AAAE-4AE8-9CA2-A2C6B7468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356C-E3DC-477D-94B7-1ED5543F7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6522-E5F8-44A4-8A25-0C07DC6E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2CB1-D01C-4486-8EDC-AD8AD350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B70F-D570-4A5C-B698-FAF37CBF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D4DB-29BD-47DF-92C7-46360EE4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9F71-3B6F-4296-AE30-B5471534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8743-FAAC-40E1-819C-87220FD7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BF35-B8AD-442E-8000-62D93FD5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819C-38F0-4936-95BA-66F2199EE3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7DF6-EE44-4BE7-AA4D-5CE085814F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Summa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uch Have You Retain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86000" y="609480"/>
            <a:ext cx="4667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uarter 3, Lesson 1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 The Days of the Judges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Plagu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king The Stubborn Will of Pharo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lague: Death of Firstbo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th Angel Passes O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sover Feast Memo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rom Egypt To Sinai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Deliverance At Red S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ptized Unto Mo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g of Victory And Glory To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tter Waters Made Sw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rival At The Mount of God: Horeb / Sin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WESOME GOD COMES DOWN UPON SIN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od Makes A Covena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 Agrees To Do All God S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n Command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abernacle: God Dwelling Among Isr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aronic Priesthood: Levi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Ho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les of Sacrif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les For Cleanliness &amp; Hol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rom Sinai To Kades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aints About Food &amp;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aints About Aaronic Priesth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aints About Inability To Take The Promised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obedience of Mo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gnment To 40 Year Wan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ander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dged In By Fear of Enem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 Years To Go Nowhere Desir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eneration Hands Down Poor Examples In Fa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n The Plains of Moab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k, King of Moab Wants Balaam To Curse Isra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rael Enticed To Sin At Baal-Pe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nication and 24,000 Fa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eating The Midian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ing Moses’ Successor: Joshu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uben &amp; Gad Get Their Inheritance Ear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e Cities of Refu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teronomy: Moses’ Spee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essings and Curses: Obedience / Disobed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g of Mo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th of Mo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Journey’s En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ssing The Jord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Spies In Jeric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orial St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jor Point Summa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ttering of the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triarc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xod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derness Wan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quest of the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ime To Take The Lan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of Josh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 Years of Wandering Now Clo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rtunity Now Before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mised Land Is Before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shua Is Assured That God Will Be With Him In His Leadership R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 The Soldier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Ready To Win Great Battles With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Ready To Lose Without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jor Point Summa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ttering of the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triarc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xod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derness Wan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quest of the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e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m &amp; E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 Into S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ding From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dis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rns, Hardship, D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in &amp; Ab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cceptable Wo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alousy / Mu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read of S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loo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ly Sinful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ah Finds Gr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ed To Build A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od Destroys All Land-Dwelling Air Brea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Animals In Ark Would Repopul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ght Souls Saved Through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catter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ah’s Three Sons: Shem, Ham, Japhe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Descendants Trying To Keep Population In One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d Tower of Babel For Corrupt Purp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Confounds Langu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s Divide According To Language And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read of 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TRIARCH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raham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ed By God Out of Ur of Chal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ised A Land God Would Show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Father A “Great Natio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Bring The Whole World A “Blessing” (Jesu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ed To Typify The Sacrificial 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essing To Come Through Son, Isa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triarch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a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 of Prom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enue of the Promises to Abrah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CO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anter of Es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ified Church Supplanting National Isra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hel – House of G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nue of the Prom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triarch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cob Is Named “Israe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 Sons of Isra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uben, Simeon, Levi, Judah, Gad, Da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sachar, Zebulun, Naphtali, Asher, Joseph, Benjam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ah Carries Messianic Prom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seph Saves Family In Egy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Call of Mos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Generations / New 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ptian Bond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Baby Moses Was Sa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es’ Prestige In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es Flees To Midian For 40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l From A Burning Bu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sion: Delivering Israel From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5T13:48:05Z</dcterms:created>
  <dc:creator>Terry W. Benton</dc:creator>
  <dc:description/>
  <dc:language>en-US</dc:language>
  <cp:lastModifiedBy>Frank D Vines</cp:lastModifiedBy>
  <dcterms:modified xsi:type="dcterms:W3CDTF">2005-01-02T14:01:40Z</dcterms:modified>
  <cp:revision>6</cp:revision>
  <dc:subject/>
  <dc:title>Summary</dc:title>
</cp:coreProperties>
</file>